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58442-61A6-4748-983A-47CA7FFF6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D0941-DA71-4A09-A276-BADFCC288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00ECF-4556-49E6-A230-921EF5F13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3070F-E49A-40FF-AD22-1D0AE12A5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145BB-3E08-46FA-98B0-0368B9991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3269D-CA1A-417E-B93E-B4585C870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94B8E-BE12-49DB-9B3F-DE0F86E78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A0D45-986F-43F2-901C-611292F37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FB147-DA28-43CB-BB12-050F4F8EF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12DBE-B838-4B09-9635-A080AC6FF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BF1F3-8EFD-4CCA-B686-5CCFE806F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69600-82D3-4997-9813-0674BDEB5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3AA31-3089-42DD-816F-573CC14DFC7C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476360" y="1419120"/>
          <a:ext cx="6238800" cy="4602240"/>
        </p:xfrm>
        <a:graphic>
          <a:graphicData uri="http://schemas.openxmlformats.org/drawingml/2006/table">
            <a:tbl>
              <a:tblPr/>
              <a:tblGrid>
                <a:gridCol w="884160"/>
                <a:gridCol w="1768680"/>
                <a:gridCol w="1547640"/>
                <a:gridCol w="2038320"/>
              </a:tblGrid>
              <a:tr h="3049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Samp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Cooling rate (K s</a:t>
                      </a:r>
                      <a:r>
                        <a:rPr b="0" i="1" lang="en-US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−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1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Atomic fraction 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95 %  confidence interv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Fig. 5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0.1175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0.016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45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Fig. 5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0.1296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0.015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Fig. 5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0.1316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0.0116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Fig. 5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0.1485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0.014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45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Fig. 5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0.1464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0.0125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684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45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Fig. 5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0.1296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0.015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Fig. 5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0.1289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0.0154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3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Fig. 5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0.12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0.014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Fig. 5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0.1299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0.012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68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Fig. 5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0.1299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0.012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Fig. 5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0.135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0.009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45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Fig. 5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0.145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0.012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Fig. 5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0.1464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0.0125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" name="TextBox 2"/>
          <p:cNvSpPr/>
          <p:nvPr/>
        </p:nvSpPr>
        <p:spPr>
          <a:xfrm>
            <a:off x="1467000" y="692280"/>
            <a:ext cx="612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ble 1: Quantitative data relating to Fig. 5.</a:t>
            </a:r>
            <a:endParaRPr b="0" lang="en-US" sz="16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468360" y="1501920"/>
          <a:ext cx="8136000" cy="1350720"/>
        </p:xfrm>
        <a:graphic>
          <a:graphicData uri="http://schemas.openxmlformats.org/drawingml/2006/table">
            <a:tbl>
              <a:tblPr/>
              <a:tblGrid>
                <a:gridCol w="3887640"/>
                <a:gridCol w="1062000"/>
                <a:gridCol w="1062000"/>
                <a:gridCol w="1062360"/>
                <a:gridCol w="1062000"/>
              </a:tblGrid>
              <a:tr h="342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 gridSpan="4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Cooling rate from </a:t>
                      </a: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T</a:t>
                      </a:r>
                      <a:r>
                        <a:rPr b="0" lang="el-GR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γ</a:t>
                      </a: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= 1373 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0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100 K s</a:t>
                      </a:r>
                      <a:r>
                        <a:rPr b="0" i="1" lang="en-US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−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20 K s</a:t>
                      </a:r>
                      <a:r>
                        <a:rPr b="0" i="1" lang="en-US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−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3 K s</a:t>
                      </a:r>
                      <a:r>
                        <a:rPr b="0" i="1" lang="en-US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−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1 K s</a:t>
                      </a:r>
                      <a:r>
                        <a:rPr b="0" i="1" lang="en-US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−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Pattern B, segregation during </a:t>
                      </a: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 </a:t>
                      </a:r>
                      <a:r>
                        <a:rPr b="0" lang="el-G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γ</a:t>
                      </a: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 </a:t>
                      </a:r>
                      <a:r>
                        <a:rPr b="0" i="1" lang="el-G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→</a:t>
                      </a: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 </a:t>
                      </a:r>
                      <a:r>
                        <a:rPr b="0" lang="el-G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α</a:t>
                      </a: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change, </a:t>
                      </a: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x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0.1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0.1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0.1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0.1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Segregation during cooling below </a:t>
                      </a: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T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f</a:t>
                      </a: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, </a:t>
                      </a: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x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A</a:t>
                      </a: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 ‒ x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0.0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0.0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0.0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" name="TextBox 2"/>
          <p:cNvSpPr/>
          <p:nvPr/>
        </p:nvSpPr>
        <p:spPr>
          <a:xfrm>
            <a:off x="1403280" y="797040"/>
            <a:ext cx="639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ble 2: Segregation of phosphorous during and after phase transformation</a:t>
            </a:r>
            <a:endParaRPr b="0" lang="en-US" sz="1600" spc="-1" strike="noStrike">
              <a:solidFill>
                <a:srgbClr val="000000"/>
              </a:solidFill>
              <a:latin typeface="맑은 고딕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entrations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e presented as atomic fractions.</a:t>
            </a:r>
            <a:endParaRPr b="0" lang="en-US" sz="1600" spc="-1" strike="noStrike">
              <a:solidFill>
                <a:srgbClr val="000000"/>
              </a:solidFill>
              <a:latin typeface="맑은 고딕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468360" y="4681440"/>
          <a:ext cx="8136000" cy="979560"/>
        </p:xfrm>
        <a:graphic>
          <a:graphicData uri="http://schemas.openxmlformats.org/drawingml/2006/table">
            <a:tbl>
              <a:tblPr/>
              <a:tblGrid>
                <a:gridCol w="4608360"/>
                <a:gridCol w="935280"/>
                <a:gridCol w="865080"/>
                <a:gridCol w="863640"/>
                <a:gridCol w="863640"/>
              </a:tblGrid>
              <a:tr h="357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100 K s</a:t>
                      </a:r>
                      <a:r>
                        <a:rPr b="0" i="1" lang="en-US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−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20 K s</a:t>
                      </a:r>
                      <a:r>
                        <a:rPr b="0" i="1" lang="en-US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−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3 K s</a:t>
                      </a:r>
                      <a:r>
                        <a:rPr b="0" i="1" lang="en-US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−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1 K s</a:t>
                      </a:r>
                      <a:r>
                        <a:rPr b="0" i="1" lang="en-US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−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Segregation during </a:t>
                      </a:r>
                      <a:r>
                        <a:rPr b="0" i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 </a:t>
                      </a:r>
                      <a:r>
                        <a:rPr b="0" lang="el-GR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γ</a:t>
                      </a:r>
                      <a:r>
                        <a:rPr b="0" i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 </a:t>
                      </a:r>
                      <a:r>
                        <a:rPr b="0" i="1" lang="el-GR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→</a:t>
                      </a:r>
                      <a:r>
                        <a:rPr b="0" i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 </a:t>
                      </a:r>
                      <a:r>
                        <a:rPr b="0" lang="el-GR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α</a:t>
                      </a:r>
                      <a:r>
                        <a:rPr b="0" i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 </a:t>
                      </a:r>
                      <a:r>
                        <a:rPr b="0" i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change during cooling at 1 K s</a:t>
                      </a:r>
                      <a:r>
                        <a:rPr b="0" i="1" lang="en-US" sz="13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−</a:t>
                      </a:r>
                      <a:r>
                        <a:rPr b="0" lang="en-US" sz="13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0.1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0.1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0.1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0.1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6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Segregation during cooling at different rates below </a:t>
                      </a:r>
                      <a:r>
                        <a:rPr b="0" i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T</a:t>
                      </a:r>
                      <a:r>
                        <a:rPr b="0" lang="en-US" sz="13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f</a:t>
                      </a:r>
                      <a:r>
                        <a:rPr b="0" i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, </a:t>
                      </a:r>
                      <a:r>
                        <a:rPr b="0" i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x</a:t>
                      </a:r>
                      <a:r>
                        <a:rPr b="0" lang="en-US" sz="13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C</a:t>
                      </a:r>
                      <a:r>
                        <a:rPr b="0" i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 </a:t>
                      </a:r>
                      <a:r>
                        <a:rPr b="0" i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‒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0</a:t>
                      </a:r>
                      <a:r>
                        <a:rPr b="0" i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.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1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0.0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0.0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0.0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" name="TextBox 4"/>
          <p:cNvSpPr/>
          <p:nvPr/>
        </p:nvSpPr>
        <p:spPr>
          <a:xfrm>
            <a:off x="1187280" y="3943440"/>
            <a:ext cx="6769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ble 3: Segregation of phosphorous during phase transformation and cooling in ferrite regime estimated from AES analysis on heat treatment pattern C.</a:t>
            </a:r>
            <a:endParaRPr b="0" lang="en-US" sz="16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6-03T18:20:52Z</dcterms:created>
  <dc:creator>Jeongin</dc:creator>
  <dc:description/>
  <dc:language>en-US</dc:language>
  <cp:lastModifiedBy>Jeongin</cp:lastModifiedBy>
  <dcterms:modified xsi:type="dcterms:W3CDTF">2014-07-01T07:18:22Z</dcterms:modified>
  <cp:revision>6</cp:revision>
  <dc:subject/>
  <dc:title>PowerPoint 프레젠테이션</dc:title>
</cp:coreProperties>
</file>